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08013"/>
        <c:axId val="47172218"/>
      </c:barChart>
      <c:catAx>
        <c:axId val="87408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72218"/>
        <c:crosses val="autoZero"/>
        <c:auto val="1"/>
        <c:lblAlgn val="ctr"/>
        <c:lblOffset val="100"/>
        <c:noMultiLvlLbl val="0"/>
      </c:catAx>
      <c:valAx>
        <c:axId val="47172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08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F27D-4970-4CAA-9FC3-F48C9C19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13D-F7C2-41D5-8454-9C241F70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1217-BC7E-4B9F-B630-DB610372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435-81DD-45B4-9BBD-493110B8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B58-3ED9-4AC1-AE5C-656F18AC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2A0-D621-4AB1-A60F-A014B5FD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5D6-D0E4-44F7-9A62-C61AE8EC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389-84BF-4CC1-9C5E-19DCF4C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60C-DD86-4AA1-A5FB-68BBA7B5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196-6DB1-4761-82BF-C576EF6E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89F-EDF5-4B4B-99CF-3E588016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A22-80CC-4574-8217-0F1FDD70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A3DCF-72EC-4DEF-B6CA-8744F06DF8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