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44944"/>
        <c:axId val="43221440"/>
      </c:barChart>
      <c:catAx>
        <c:axId val="38444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21440"/>
        <c:crosses val="autoZero"/>
        <c:auto val="1"/>
        <c:lblAlgn val="ctr"/>
        <c:lblOffset val="100"/>
        <c:noMultiLvlLbl val="0"/>
      </c:catAx>
      <c:valAx>
        <c:axId val="43221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4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E98-5E71-4D12-AB0B-9C855A3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0A4-3F84-4DBE-A124-30882A0D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7C3-069D-452B-A1F2-1C55D17F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2EC4-6AB3-41A1-AD98-9C977301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8F4-67DA-4BCB-8627-E47BA0D2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6A4-1450-49AE-8D38-B071D279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6C5-0BF5-425A-8D2D-315BC8A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D0A-F99A-4095-BD78-2883B854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476-1A8E-41DA-A893-7F6AC08A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34D-891B-483D-AA9F-624807D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02A-0B61-4917-B345-13D24F2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A0F-D9A5-4961-A9DC-B680B28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1B873-77D2-4FAF-B6BA-41AC92CA14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