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93801"/>
        <c:axId val="58342639"/>
      </c:barChart>
      <c:catAx>
        <c:axId val="18593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42639"/>
        <c:crosses val="autoZero"/>
        <c:auto val="1"/>
        <c:lblAlgn val="ctr"/>
        <c:lblOffset val="100"/>
        <c:noMultiLvlLbl val="0"/>
      </c:catAx>
      <c:valAx>
        <c:axId val="58342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93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315-0292-46A1-8005-104E70EC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5D13-96F1-4484-B001-F9E4D59E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06F-C8FA-444F-8A8E-66BA76FD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15E-A28F-4D1E-B47D-92858AFA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0509-70A9-482B-AEDA-FB7FE363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495-8D16-4C03-AF11-B2DC346D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BCC-A5CA-4777-9568-F0B146E5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F165-4BF9-4BD2-BEDA-28AF376A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99E-1287-4196-8E30-B44AECBB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27F-0276-460D-BB87-2C4C8579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978-DDCD-44D1-A78B-009A5499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8D4-233C-4551-B47F-ED9D27BB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2F94B-A827-427C-B3A6-FB6E53CB4D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