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59890"/>
        <c:axId val="91249922"/>
      </c:barChart>
      <c:catAx>
        <c:axId val="63059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9922"/>
        <c:crosses val="autoZero"/>
        <c:auto val="1"/>
        <c:lblAlgn val="ctr"/>
        <c:lblOffset val="100"/>
        <c:noMultiLvlLbl val="0"/>
      </c:catAx>
      <c:valAx>
        <c:axId val="91249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59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8B1-8474-48B0-9E84-8F20BA13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96A-B076-4C69-88E9-9EE7AE32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00F-32C3-4340-AAFF-21C891A4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0C9-B768-4A23-BA51-7D823835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CA7-85E9-4605-A443-38253DC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B39-FD46-4932-841C-313BBBC9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C7D-66C8-4481-B017-1727A8F1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F1C-8EF1-4FBE-93E0-73D09A5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3D2-61D3-4A21-AD03-4FD79D50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D67-490D-407A-A4AD-6C36B29F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556-A817-49B1-8C19-A9BE475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F8E-432A-4D63-A9E8-D137FCC8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FB4A9-3FA6-412F-A4AF-2D00D960E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