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59802"/>
        <c:axId val="77765530"/>
      </c:barChart>
      <c:catAx>
        <c:axId val="77459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65530"/>
        <c:crosses val="autoZero"/>
        <c:auto val="1"/>
        <c:lblAlgn val="ctr"/>
        <c:lblOffset val="100"/>
        <c:noMultiLvlLbl val="0"/>
      </c:catAx>
      <c:valAx>
        <c:axId val="77765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59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0A1-3678-4D76-8110-A060697B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2CD-0DD5-4F0E-AD8C-C364F063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7621-8AAF-4BAF-AFF0-D010AC41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B14-0826-4B3E-8E04-1823B101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859-E0B9-4682-BC34-1643DD00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9F9-53D2-4F85-A30C-4B273B2C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B51-FCF1-44FF-9261-F0C8EEBC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25A-807D-438A-97A0-7910993C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7FA-E641-4D65-990F-35CA23AE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BAC-3C54-44CD-A145-2EFDB367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23D-D7D7-4C73-9EB2-F5A11306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7AE-77AA-44FE-A6FC-272F89D3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08620-EB30-4DF6-BBB4-E7F7E93A9D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