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639610"/>
        <c:axId val="53136790"/>
      </c:barChart>
      <c:catAx>
        <c:axId val="846396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36790"/>
        <c:crosses val="autoZero"/>
        <c:auto val="1"/>
        <c:lblAlgn val="ctr"/>
        <c:lblOffset val="100"/>
        <c:noMultiLvlLbl val="0"/>
      </c:catAx>
      <c:valAx>
        <c:axId val="531367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396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1B5-249A-4368-B0FC-632E1383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2560-F155-49E9-8557-CDB53BB1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2AF-4780-4ECC-B8FA-35C80935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836-952D-4E9F-AF15-28D0FC71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0BF-5AF9-4E64-89EC-029A53E3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CA6B-54D8-423B-A916-74E3F3BB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DCD2-9012-459A-80B8-4D5627E1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EB2-65E2-422A-BD78-D091F564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D7CE-D1FD-44FF-9EFD-754BF4A8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D57E-15C0-4653-983E-51DD4D2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AFC-AB75-419D-84D9-417B6682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FCA9-E9FD-4357-8311-CF03BDF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4B3FA-6C0F-4EBC-A882-E7BB9AE283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