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81933"/>
        <c:axId val="38500748"/>
      </c:barChart>
      <c:catAx>
        <c:axId val="41681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00748"/>
        <c:crosses val="autoZero"/>
        <c:auto val="1"/>
        <c:lblAlgn val="ctr"/>
        <c:lblOffset val="100"/>
        <c:noMultiLvlLbl val="0"/>
      </c:catAx>
      <c:valAx>
        <c:axId val="38500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81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948-AC7A-4002-847F-C9980368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B3F-2C18-4C81-96DA-94E3FAD0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27B-2862-444A-9D31-0A60C95B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720-060C-4E50-9491-05A5E350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768-39C8-4FCB-B544-1EA646AA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8B4-86D9-4608-8C12-02B4A5A2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872-FDBB-4409-8395-34EE563E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BBA-7ADD-4957-A1E6-9EEA3DD9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9AD-3417-46C4-BB3A-5BE3F328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A71-2DC9-40E6-9BE6-27ECABCE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8BB-189C-4876-854B-47AB6CBA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3C1-32D7-46E9-BE4F-9BA3CCF8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4B312-BDE0-4460-8529-FBC724E0D1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