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38471"/>
        <c:axId val="89414261"/>
      </c:barChart>
      <c:catAx>
        <c:axId val="49138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14261"/>
        <c:crosses val="autoZero"/>
        <c:auto val="1"/>
        <c:lblAlgn val="ctr"/>
        <c:lblOffset val="100"/>
        <c:noMultiLvlLbl val="0"/>
      </c:catAx>
      <c:valAx>
        <c:axId val="89414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38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5C1-3571-4C2E-9D3E-EEBBCF3D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850-3255-4520-B643-BD78DCD8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BD6-15A6-406B-813C-18755FBB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EC4-1532-4B1D-9D4C-95A532EB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B96-11A0-48BB-AB09-2B61B3B3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FCE-760C-49A7-9B1A-9A3E77A0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9D1-9269-44C8-987E-92FDE60F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9C4-CD71-4E1B-91A2-60AA1790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293-10A3-4E6D-B214-1BB13E59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C40-5A5B-4130-9322-FF50469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C9F-3901-4C08-96A2-7DCD5327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F63-E562-444B-A9D2-33D6FDD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783BA-FB3C-454E-A05D-2D4A7B5C1F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