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84133"/>
        <c:axId val="73854647"/>
      </c:barChart>
      <c:catAx>
        <c:axId val="43684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54647"/>
        <c:crosses val="autoZero"/>
        <c:auto val="1"/>
        <c:lblAlgn val="ctr"/>
        <c:lblOffset val="100"/>
        <c:noMultiLvlLbl val="0"/>
      </c:catAx>
      <c:valAx>
        <c:axId val="73854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84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3A7-FE1D-4925-935D-2BD81A43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C8A-8CF6-48E5-A3E0-F8029B04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5FB-BE73-4F5B-8060-B006AA6A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F44-8BF3-4A80-9208-AF780656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E38-D027-43BA-9712-0EC82E82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BC9-87D4-42B7-9B88-85B65214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7D2-BE28-48C7-9B14-E91E619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B8C4-656D-4796-A331-0613707E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80D-6926-4A60-A75A-5A7D154D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021-14FF-4568-BC5C-91117F1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6CE5-DB70-404A-9203-D7CD587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77F-B86C-4756-B777-68DDD3C0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A9EF9-5181-43F5-BDEE-2F78BFC31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