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21691"/>
        <c:axId val="81341532"/>
      </c:barChart>
      <c:catAx>
        <c:axId val="628216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41532"/>
        <c:crosses val="autoZero"/>
        <c:auto val="1"/>
        <c:lblAlgn val="ctr"/>
        <c:lblOffset val="100"/>
        <c:noMultiLvlLbl val="0"/>
      </c:catAx>
      <c:valAx>
        <c:axId val="81341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216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0383-C644-4278-8F9D-878A1398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7E4-6DCD-4107-A240-7EE8F55E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CE3C-9606-4F55-BF80-DD7682A9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A14-9AD2-4D0E-8ED8-2CA1EA79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AC8-19D8-425F-ACD8-1B907947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397-C5EE-43C9-AB4F-C323BBEC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892-9F86-40D2-AA40-E2DFADDB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C5C-A148-477A-9F53-C59359C6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349-C6CE-4295-9EA9-99EBB64C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037F-4364-4382-A298-2848E2FA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82E-F2D6-4D93-A39A-3438A11E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3D1-9B32-4973-A5EE-864B6824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FBB62-FE73-4E0D-9D2E-47797CAA04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