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97225"/>
        <c:axId val="17633785"/>
      </c:barChart>
      <c:catAx>
        <c:axId val="38697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3785"/>
        <c:crosses val="autoZero"/>
        <c:auto val="1"/>
        <c:lblAlgn val="ctr"/>
        <c:lblOffset val="100"/>
        <c:noMultiLvlLbl val="0"/>
      </c:catAx>
      <c:valAx>
        <c:axId val="17633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97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FCF-2EC3-4194-B874-8EC72C7C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EF9-F3AC-4A6A-84A2-E96F6BA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D21-5A67-4E05-B3A4-D6ECF536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B23-1368-4A1A-AC3F-14DB1ABE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07C-E31E-45F3-84B7-E68A5D6F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F9C-1389-4392-8AB7-1E44F294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2CE-BAED-430F-B59B-A8E8D64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7BA-682F-43C2-B6A0-EC41F09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EFE-C117-4E28-A20D-66BB8A29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E25-ECB8-43BE-8356-70E1217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D15-4B08-4726-9184-9CC485E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41E-0192-49AA-ABDF-BEBD1629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585B7-BE7E-4355-AA8B-A6CA7F2CE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