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28486"/>
        <c:axId val="85587689"/>
      </c:barChart>
      <c:catAx>
        <c:axId val="33528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87689"/>
        <c:crosses val="autoZero"/>
        <c:auto val="1"/>
        <c:lblAlgn val="ctr"/>
        <c:lblOffset val="100"/>
        <c:noMultiLvlLbl val="0"/>
      </c:catAx>
      <c:valAx>
        <c:axId val="85587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28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AEF-DC5E-4701-A5CF-047438C4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2E80-2809-41AC-829D-9858C3B1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EC28-DACB-4ACB-AABD-D27FEE71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9575-CEFB-4050-83D7-96F84CEE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9F4-E117-45C6-BB3D-1375832F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14E-CF5E-4FE8-8F55-EBE52E71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243D-E4C3-4727-AF70-DCF66C3B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D94-EA1F-45B0-842F-B793D6DC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D366-0849-48A8-AF06-1C136428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F740-7FA9-40F3-B4F1-881EEDD4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B52-A863-450D-AA2D-0723ADF1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621-6F20-4E50-8551-B92C3D4D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AC9FB-D33B-4C3B-9BC4-2033294F0F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