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136027"/>
        <c:axId val="47625241"/>
      </c:barChart>
      <c:catAx>
        <c:axId val="351360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25241"/>
        <c:crosses val="autoZero"/>
        <c:auto val="1"/>
        <c:lblAlgn val="ctr"/>
        <c:lblOffset val="100"/>
        <c:noMultiLvlLbl val="0"/>
      </c:catAx>
      <c:valAx>
        <c:axId val="476252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360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8BBA-BD52-44E4-8BA0-5033336A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194-5668-4C34-B213-5B0E2BFA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759D-89D4-426A-8A0C-A1733503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22F2-1699-4CD7-A0D6-8EFC709D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ECFF-70EF-4CE0-91F5-B055E235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0DD2-AED4-420D-88E8-9BEBD1CC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57DA-EBAC-4364-AC3D-8DA71318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B00C-92C9-4584-8A52-F1F81C2A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414-D6B8-41D6-B99E-87767EC0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FD6F-88A9-4289-AEA1-AC6B0AC4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4ED0-847A-4136-A66B-B60D592E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AF3D-FAC1-4F24-A803-5E3C802B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BAC44-C19E-4730-825E-C985DB056E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